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AF9-AD47-4848-BB12-F44EF94F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A47-AE9B-4901-85FB-CA9ACD7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1FD-0A90-4868-86F6-85F33AD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06C-FB2D-4714-81FA-E2270489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988-9CD9-4F44-9B24-06DF53C3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B0D-A94F-4C75-BCAF-E11D01AD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739-DB52-4AE4-8513-73C80A5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E36-681E-4405-8F6F-9C6CA1A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5AA-E89F-42A8-A78F-A295BED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87A-A930-4E54-B752-2F4329C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180-8182-4ED5-AFDA-1B61DC6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C66-DB37-4FC7-8E12-47E7593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281-2134-4CD7-88C8-CFF773FB2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7360" y="1143000"/>
            <a:ext cx="43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ow I Bec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 Pi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11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69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85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43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401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59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725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440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88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568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1320" y="16765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67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15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73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716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530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07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16765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432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164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56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867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0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665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8124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2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37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71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06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720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646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67652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80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65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49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4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076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132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592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851200" cy="261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68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5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574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4320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25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483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341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199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057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1:11:04Z</dcterms:created>
  <dc:creator>Rutherford County Schools</dc:creator>
  <dc:description/>
  <dc:language>en-US</dc:language>
  <cp:lastModifiedBy>Rutherford County Schools</cp:lastModifiedBy>
  <dcterms:modified xsi:type="dcterms:W3CDTF">2007-04-21T15:50:11Z</dcterms:modified>
  <cp:revision>7</cp:revision>
  <dc:subject/>
  <dc:title>Slide 1</dc:title>
</cp:coreProperties>
</file>